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A6DD4-F482-4523-B29F-3B3A93ADA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C51E1-3458-423A-8FA0-2525E0C4AF8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05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9B75BA-6D21-42B1-8BCF-D6BEB7C66F4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05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8A7C0-8BFD-450E-AF65-B191BA14456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38320" y="763560"/>
            <a:ext cx="5492520" cy="37688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05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D14FB-02D6-447F-BEB0-654F212A948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38320" y="763560"/>
            <a:ext cx="5489640" cy="37656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05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414D-CB70-4DC5-9668-E0642E62E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0DE0-2396-4C68-B063-9694D17C1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4D801-327B-4AC6-83B2-F693CC9F7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55D1-721B-4EA9-A585-978DFF292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D941B-24F4-4566-8D8A-1D9928E55F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DD487-E50D-44E6-9C36-2D35B9393F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394E5-FA59-4C78-BDBC-3AB1F7B9BE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0CB7A-A558-4D2A-A2CE-9D000B81DA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E0294-DB89-4793-9223-80181CC6E4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360" y="539640"/>
            <a:ext cx="905508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A7315-7B96-4390-9304-390E2F3E38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67659-B0AF-4628-AB26-658AC31414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9D66-A028-4C6D-A2F0-A59918729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F78D-E9BB-488C-B39D-6CC30CB586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A13D2-DC3D-4927-B84C-E11BB3037F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5CD56-69D4-4198-81E8-27E61044BD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F911-0D47-464C-81FA-A35F91A3E2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64586-5427-4B5A-8386-28B4F3C11B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7283E-94AD-42C4-8BA6-DA345BE7D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A8B3-A3A5-4791-A170-160DE85A1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53F1-7C3A-4F2A-A0A2-BA3EEA5DF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539640"/>
            <a:ext cx="905508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2523D-80EE-4044-B97D-FD96D1F07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974B-AF4D-42EB-B205-B5210589D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9368-042D-42CF-A4FF-E5A061B9A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5501-5409-4517-AC18-E679100CF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6360" y="6527880"/>
            <a:ext cx="23335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448080" y="6527880"/>
            <a:ext cx="31813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155000" y="6527880"/>
            <a:ext cx="2332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AABDA-4937-403B-8498-353E8D798AF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6360" y="6527880"/>
            <a:ext cx="23335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48080" y="6527880"/>
            <a:ext cx="31813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7155000" y="6527880"/>
            <a:ext cx="2332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C9B48-C5D2-4585-BA3D-5A627E61D25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03280" y="1768320"/>
            <a:ext cx="9066240" cy="70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c5000b"/>
                </a:solidFill>
                <a:latin typeface="Lucida Handwriting"/>
              </a:rPr>
              <a:t> </a:t>
            </a:r>
            <a:r>
              <a:rPr b="1" lang="en-US" sz="3600" spc="-1" strike="noStrike">
                <a:solidFill>
                  <a:srgbClr val="c5000b"/>
                </a:solidFill>
                <a:latin typeface="Joker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lackadder ITC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52440"/>
            <a:ext cx="91440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Lucida Handwriting"/>
              </a:rPr>
              <a:t>The Story Of  Benjamin Frankli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43200" y="1828800"/>
            <a:ext cx="4114800" cy="3581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571500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http://search.ebscohost.com/login.aspx?direct=true&amp;AuthType=ip,custuid&amp;custid=s8455861&amp;db=imh&amp;AN=imh98013&amp;site=srck5-liv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42840" y="685800"/>
            <a:ext cx="987264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njamin Franklin was born on January 1706 in Bos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914400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2286000"/>
            <a:ext cx="8686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urlz MT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Curlz MT"/>
              </a:rPr>
              <a:t>He had invented lighting rod and  bifocal glasses for people. He also invented swimming aids and fins. He was a expert when he broke his apprenticeship and ran away. Benjamin went to work one day and thought about inventing a print shop. When Benjamin was the age of 22 years old he worked for 20 years.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" y="457200"/>
            <a:ext cx="90648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 Little About Benjamin Frank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172200" y="4343400"/>
            <a:ext cx="306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4343400"/>
            <a:ext cx="9372600" cy="14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657600"/>
            <a:ext cx="1440" cy="11430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743200"/>
            <a:ext cx="20574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 was born in 1706 in Bos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3657600"/>
            <a:ext cx="1440" cy="11430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5029200"/>
            <a:ext cx="13716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 had invented lighting rod and swimming aid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6160" y="3657600"/>
            <a:ext cx="1440" cy="11430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286000"/>
            <a:ext cx="182880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Ben was seventeen he had broken his apprenticeship and ran a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3560" y="3657600"/>
            <a:ext cx="1440" cy="11430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4800600"/>
            <a:ext cx="18288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Ben was 22 years old he worked for  20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3657600"/>
            <a:ext cx="1440" cy="11430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2514600"/>
            <a:ext cx="2514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urlz MT"/>
              </a:rPr>
              <a:t>When i was ten years old I was taken from my house because I had to assist my farther in the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915400" y="3657600"/>
            <a:ext cx="1440" cy="11430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29600" y="5029200"/>
            <a:ext cx="13716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died in 179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3657600"/>
            <a:ext cx="1440" cy="11430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5029200"/>
            <a:ext cx="9144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marry Deborah 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4720" y="584280"/>
            <a:ext cx="905688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y time line on Benjamin Frankl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